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4.gif" ContentType="image/gif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applause.wav" ContentType="audio/x-wav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0B872-247A-4105-8344-DA538EFA5C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CE29B-EB9D-43E6-B0BF-9417A89201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8419F-275B-4608-8BE8-A2F28855C7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EEF71-5F59-471D-93B7-5D19753D70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1A72-CBDF-4FFC-8640-21A838BC5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7562-8541-4490-98BA-6E7BDDD03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10EE-BA75-46D7-98D9-06640F917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84FA-8337-44F7-938B-112C888DE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6401-E756-473B-A625-D7A600282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7C1E-3078-48F4-9638-97179C5E7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48CD-18E6-4920-A4F3-17053DD69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D821-0824-4B9D-A351-E06DF3605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427D-5025-4195-9402-F6F5B546A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737B-3BAF-4B18-93CC-63B5430CA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EBC2-B999-40E2-8F87-EC1D4FB67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4AC3-6C9D-4722-BD31-3705BC3A9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98D7D-4EA8-47B9-904F-AB849888F8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image" Target="../media/image14.gif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farm3.static.flickr.com/2386/2145079381_bf78526077.jpg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DokChampa"/>
              </a:rPr>
              <a:t>Russian Econo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61513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y: </a:t>
            </a:r>
            <a:r>
              <a:rPr b="0" lang="en-US" sz="3200" spc="-1" strike="noStrike">
                <a:solidFill>
                  <a:srgbClr val="ffffff"/>
                </a:solidFill>
                <a:latin typeface="Curlz MT"/>
              </a:rPr>
              <a:t>Amanda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clan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and </a:t>
            </a:r>
            <a:r>
              <a:rPr b="0" lang="en-US" sz="3200" spc="-1" strike="noStrike">
                <a:solidFill>
                  <a:srgbClr val="ffffff"/>
                </a:solidFill>
                <a:latin typeface="Juice ITC"/>
              </a:rPr>
              <a:t>Raymo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249000_big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MV Boli"/>
                <a:ea typeface="MV Boli"/>
              </a:rPr>
              <a:t>Problems In Econo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strangelo Edessa"/>
                <a:ea typeface="Estrangelo Edessa"/>
              </a:rPr>
              <a:t>Soviet Union fell in 1991. Since then, Russia has been trying to rebuild their econom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nancial crisis in 199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stral"/>
              </a:rPr>
              <a:t>A main oil company’s CEO was arrested in 2003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ak banking system and poor economic growth also contribute to the falling econom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Economy unst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8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77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" dur="77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" dur="77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5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67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70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3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6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money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Solutions/ Adap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Went to gold standard to solve financial cri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Open more small and medium sized companies in Siber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Kept social priorities and pensions increased while inflation decreased during economic cri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Trying to keep inflation low by restricting prices, anti-monopoly adjustments and other tac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indefinite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4" dur="indefinite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5" dur="indefinite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indefinite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8" dur="indefinite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9" dur="indefinite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indefinite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2" dur="indefinite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93" dur="indefinite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indefinite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6" dur="indefinite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97" dur="indefinite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0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06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09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12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15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7" descr="176311502716118.jpg"/>
          <p:cNvPicPr/>
          <p:nvPr/>
        </p:nvPicPr>
        <p:blipFill>
          <a:blip r:embed="rId1"/>
          <a:stretch/>
        </p:blipFill>
        <p:spPr>
          <a:xfrm>
            <a:off x="4724280" y="3657600"/>
            <a:ext cx="4419720" cy="3200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Hematite2.jpg"/>
          <p:cNvPicPr/>
          <p:nvPr/>
        </p:nvPicPr>
        <p:blipFill>
          <a:blip r:embed="rId2"/>
          <a:stretch/>
        </p:blipFill>
        <p:spPr>
          <a:xfrm>
            <a:off x="0" y="3657600"/>
            <a:ext cx="4724280" cy="3200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gold_12.jpg"/>
          <p:cNvPicPr/>
          <p:nvPr/>
        </p:nvPicPr>
        <p:blipFill>
          <a:blip r:embed="rId3"/>
          <a:stretch/>
        </p:blipFill>
        <p:spPr>
          <a:xfrm>
            <a:off x="4724280" y="0"/>
            <a:ext cx="4419720" cy="3657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oil_well_1290026178.jpg"/>
          <p:cNvPicPr/>
          <p:nvPr/>
        </p:nvPicPr>
        <p:blipFill>
          <a:blip r:embed="rId4"/>
          <a:stretch/>
        </p:blipFill>
        <p:spPr>
          <a:xfrm>
            <a:off x="0" y="0"/>
            <a:ext cx="4724280" cy="36576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Rockwell Extra Bold"/>
              </a:rPr>
              <a:t>Russia has many natural resources such 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 Extra Bold"/>
              </a:rPr>
              <a:t>gold, nickel, coal, petroleum, copper, fish, bauxite, iron ore, lead, tin, and zin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Ruehl"/>
                <a:ea typeface="FrankRuehl"/>
              </a:rPr>
              <a:t>In 2009, Russia was the world’s leading exporter of g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e…forest contains a lot of timber for the Russians to use for building and other important us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131" dur="2000" fill="hold"/>
                                        <p:tgtEl>
                                          <p:spTgt spid="6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5" dur="250" autoRev="1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6" dur="250" autoRev="1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7" dur="250" autoRev="1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8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ox(in)" transition="out">
                                      <p:cBhvr additive="repl">
                                        <p:cTn id="16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" dur="2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" dur="2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3" dur="2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Kaliningrad-Russi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Calibri"/>
              </a:rPr>
              <a:t>Port C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angSong"/>
                <a:ea typeface="FangSong"/>
              </a:rPr>
              <a:t>Russia has many port cities such as Kaliningrad, St. Petersburg, Murmansk and Vladivosto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KaiTi"/>
                <a:ea typeface="KaiTi"/>
              </a:rPr>
              <a:t>These Port Cities are important because they increase the opportunity of trade with other countr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ngsuhChe"/>
                <a:ea typeface="GungsuhChe"/>
              </a:rPr>
              <a:t>Because of these Port Cities, Russian’s are allowed to get the goods they need.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horz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9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plus(in)" transition="out">
                                      <p:cBhvr additive="repl">
                                        <p:cTn id="234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37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40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663248248_8236c31a9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French Script MT"/>
              </a:rPr>
              <a:t>Port C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6840" y="1523880"/>
            <a:ext cx="404028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aiandra GD"/>
              </a:rPr>
              <a:t>Kaliningrad:</a:t>
            </a: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 a Baltic port in north-wester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aiandra GD"/>
              </a:rPr>
              <a:t>No connection to other Russian territori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aiandra GD"/>
              </a:rPr>
              <a:t>Major manufacturing 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aiandra GD"/>
              </a:rPr>
              <a:t>Ice-fre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S Gothic"/>
                <a:ea typeface="MS Gothic"/>
              </a:rPr>
              <a:t>Vladivostok: </a:t>
            </a:r>
            <a:r>
              <a:rPr b="0" lang="en-US" sz="2400" spc="-1" strike="noStrike">
                <a:solidFill>
                  <a:srgbClr val="ffffff"/>
                </a:solidFill>
                <a:latin typeface="MS Gothic"/>
                <a:ea typeface="MS Gothic"/>
              </a:rPr>
              <a:t>South-eastern port in Russ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S Gothic"/>
                <a:ea typeface="MS Gothic"/>
              </a:rPr>
              <a:t>Only ice-free port in mainland Russ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S Gothic"/>
                <a:ea typeface="MS Gothic"/>
              </a:rPr>
              <a:t>Biggest ocean port on Pacific coast in Russ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S Gothic"/>
                <a:ea typeface="MS Gothic"/>
              </a:rPr>
              <a:t>Major industries are fishing and engineerin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44720" y="1447560"/>
            <a:ext cx="404172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ckwell"/>
              </a:rPr>
              <a:t>Murmansk: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on the Kola Peninsul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worlds largest port located behind polar circ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Most northern non-freezing port in Russ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Euphemia"/>
              </a:rPr>
              <a:t>St. Petersburg: </a:t>
            </a:r>
            <a:r>
              <a:rPr b="0" lang="en-US" sz="2400" spc="-1" strike="noStrike">
                <a:solidFill>
                  <a:srgbClr val="ffffff"/>
                </a:solidFill>
                <a:latin typeface="Euphemia"/>
              </a:rPr>
              <a:t>major sea port at the east end of the gulf of Finl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Euphemia"/>
              </a:rPr>
              <a:t>Industries include: shipbuilding, engineering, electronics and chemica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Euphemia"/>
              </a:rPr>
              <a:t>Second main city in Russian feder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10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10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10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10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8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8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8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6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9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2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5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8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1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4" dur="5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7" dur="5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352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355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358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361" dur="1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364" dur="10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367" dur="10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untitled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Felix Titling"/>
              </a:rPr>
              <a:t>Tour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One of the most important to service secto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uring the financial crisis in 1998, Russian tourism fe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ots of cultural sites in Moscow and St. Petersbu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otumChe"/>
                <a:ea typeface="DotumChe"/>
              </a:rPr>
              <a:t>Too much paper work, expensive prices and lack of local marketing limits what tourists can see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u"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4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4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1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xit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18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24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0" dur="1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6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imag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MingLiU-ExtB"/>
                <a:ea typeface="PMingLiU-ExtB"/>
              </a:rPr>
              <a:t>Fast Fast Fa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eelawadee"/>
                <a:ea typeface="Leelawadee"/>
              </a:rPr>
              <a:t>Now is second leading producer of oil after Saudi Arab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adley Hand ITC"/>
              </a:rPr>
              <a:t>Rich in oil, natural gas and timb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Leading producer of energy and military technology and natural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overnment invest in multi-billion program to boost education, healthcare, agriculture and hous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in" orient="vert"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86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9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4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6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5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1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5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6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5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1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Freestyle Script"/>
              </a:rPr>
              <a:t>THE END!!!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6" descr="imagesCA1BOKT7.jpg"/>
          <p:cNvPicPr/>
          <p:nvPr/>
        </p:nvPicPr>
        <p:blipFill>
          <a:blip r:embed="rId1"/>
          <a:stretch/>
        </p:blipFill>
        <p:spPr>
          <a:xfrm>
            <a:off x="609480" y="1981080"/>
            <a:ext cx="2819520" cy="26258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C:\Users\Kim\AppData\Local\Microsoft\Windows\Temporary Internet Files\Content.IE5\H3L26ZRR\MC900432487[1].wmf"/>
          <p:cNvPicPr/>
          <p:nvPr/>
        </p:nvPicPr>
        <p:blipFill>
          <a:blip r:embed="rId2"/>
          <a:stretch/>
        </p:blipFill>
        <p:spPr>
          <a:xfrm>
            <a:off x="6629400" y="1905120"/>
            <a:ext cx="1847880" cy="19843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smiles_419.gif"/>
          <p:cNvPicPr/>
          <p:nvPr/>
        </p:nvPicPr>
        <p:blipFill>
          <a:blip r:embed="rId3"/>
          <a:stretch/>
        </p:blipFill>
        <p:spPr>
          <a:xfrm>
            <a:off x="3505320" y="3505320"/>
            <a:ext cx="2857320" cy="1971720"/>
          </a:xfrm>
          <a:prstGeom prst="rect">
            <a:avLst/>
          </a:prstGeom>
          <a:ln w="0">
            <a:noFill/>
          </a:ln>
        </p:spPr>
      </p:pic>
    </p:spTree>
  </p:cSld>
  <p:transition>
    <p:comb dir="vert"/>
    <p:sndAc>
      <p:stSnd>
        <p:snd r:embed="rId4" name="applaus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3T22:06:37Z</dcterms:created>
  <dc:creator>Michelle</dc:creator>
  <dc:description/>
  <dc:language>en-US</dc:language>
  <cp:lastModifiedBy>Kim</cp:lastModifiedBy>
  <dcterms:modified xsi:type="dcterms:W3CDTF">2010-12-21T19:16:25Z</dcterms:modified>
  <cp:revision>46</cp:revision>
  <dc:subject/>
  <dc:title>Russia Economy</dc:title>
</cp:coreProperties>
</file>